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C86E-249F-437B-8277-804945317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A54E-10C2-43B2-9FF6-31ABDCD26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6EBA-86D7-4302-9932-F5DE62F58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8451-A9A0-41F0-A3EC-7FE2312A9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06C0-7E41-462E-96BC-C7E92D38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5B25-BED6-4C56-ABF2-D372FB04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52C50-1E60-434E-838E-8A31E5D2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10E6-C638-4CAB-A6CE-919B0C32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D6DF-60EA-46CC-BF6E-AB07D9D4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9BFF-C95C-4CE3-84EF-BA6261C0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771F-2BD5-484E-8BBD-DA292946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F805-9725-4916-8BE7-76EA4BCE6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F432-C602-49D6-978E-3D698C44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0B7F-587C-41D9-93F3-37C7D28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52CE-B258-40AA-B209-3C2B4114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D59B-DDE6-4591-9BE9-157F469C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511D-77C1-4063-912E-EA301A94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6806-8AAB-4ADB-B490-8A4AFAC25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608A-36EC-4C9E-AE7B-55A5C7FC9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DD47-2E10-486E-82C3-3F3030E79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CEA4-D582-4C01-AB80-DC008AB24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E3C2-EB83-421E-8E8E-CF4259D97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C99F-4122-4358-847D-E80CB1907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121D-F02B-435D-A102-AE0497052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DE277D7-9819-4629-81A8-11D3E8D36AF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913BCBE-3819-4553-B0DE-5776E1F78DB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3"/>
          </p:nvPr>
        </p:nvSpPr>
        <p:spPr>
          <a:xfrm>
            <a:off x="456840" y="4686480"/>
            <a:ext cx="2128680" cy="3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4"/>
          </p:nvPr>
        </p:nvSpPr>
        <p:spPr>
          <a:xfrm>
            <a:off x="3127320" y="4686480"/>
            <a:ext cx="2897280" cy="3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331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9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2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02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0,06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2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09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9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5-16T22:07:06Z</dcterms:modified>
  <cp:revision>4</cp:revision>
  <dc:subject/>
  <dc:title/>
</cp:coreProperties>
</file>